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6DA-9AA7-481B-A7A0-0FC21087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5B6-180E-4C59-94D9-21E9F33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698-1089-41BC-B27B-48CC7683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AE7-1C27-4C61-825C-894708AA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7E77-C150-4BBD-A667-8D441B36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4FA5-3B49-4F84-998A-78244E6F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44B2-CD88-4339-864F-338221D6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72D5-EFD9-4060-8804-7D3E6A7E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FD8C-5D7F-4CF1-8E2D-8ED77739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D307-4EC1-4DD7-9719-129A4E2E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DF0-A727-4577-944E-B10AFBD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262-32FA-4029-ABC9-2316D7FF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5E20-AE5A-4F69-8389-438CA87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826-C92A-4124-BA7A-871154B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B20E-8CAD-4DC2-B638-A80D462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A930-3567-496B-BC0B-3D7AACFD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770-DF3A-454F-99F3-7A71C820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BEB-FAAD-48AE-B6F4-4D476D9B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21E-BACD-46E6-94B7-0BE43884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9CF-254C-400A-A7D9-5654B02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8B6-E1A9-4659-91A0-1F808A4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E70-C910-41B5-98CD-F86B8599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447-938D-491A-B807-37EB786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305-33D1-4E07-8A67-00A9AEA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6D4-4ED2-4763-9AFB-711A78AB03B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31D-22A4-419A-9EA5-A104897AE76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Ne reprezinta ceea ce spunem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5840" y="2540160"/>
            <a:ext cx="2575080" cy="26143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4343400" y="1371600"/>
            <a:ext cx="4300200" cy="2561400"/>
            <a:chOff x="4343400" y="1371600"/>
            <a:chExt cx="4300200" cy="2561400"/>
          </a:xfrm>
        </p:grpSpPr>
        <p:cxnSp>
          <p:nvCxnSpPr>
            <p:cNvPr id="214" name="_s4113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6989760" y="1899360"/>
              <a:ext cx="512640" cy="150552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7" name="_s4112"/>
            <p:cNvCxnSpPr>
              <a:stCxn id="218" idx="0"/>
              <a:endCxn id="216" idx="2"/>
            </p:cNvCxnSpPr>
            <p:nvPr/>
          </p:nvCxnSpPr>
          <p:spPr>
            <a:xfrm rot="16200000">
              <a:off x="6237360" y="2652120"/>
              <a:ext cx="512640" cy="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9" name="_s4111"/>
            <p:cNvCxnSpPr>
              <a:stCxn id="220" idx="0"/>
              <a:endCxn id="216" idx="2"/>
            </p:cNvCxnSpPr>
            <p:nvPr/>
          </p:nvCxnSpPr>
          <p:spPr>
            <a:xfrm flipH="1" flipV="1" rot="5400000">
              <a:off x="5484240" y="1899720"/>
              <a:ext cx="512640" cy="150552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16" name="_s4107"/>
            <p:cNvSpPr/>
            <p:nvPr/>
          </p:nvSpPr>
          <p:spPr>
            <a:xfrm>
              <a:off x="5848560" y="137160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eaeaea"/>
                  </a:solidFill>
                  <a:latin typeface="Arial"/>
                </a:rPr>
                <a:t>Ce presupune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eaeaea"/>
                  </a:solidFill>
                  <a:latin typeface="Arial"/>
                </a:rPr>
                <a:t>o CONVERSATIE?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_s4108"/>
            <p:cNvSpPr/>
            <p:nvPr/>
          </p:nvSpPr>
          <p:spPr>
            <a:xfrm>
              <a:off x="4343400" y="290844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ATENTIE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LA CE SPUN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CEILALTI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_s4109"/>
            <p:cNvSpPr/>
            <p:nvPr/>
          </p:nvSpPr>
          <p:spPr>
            <a:xfrm>
              <a:off x="5848560" y="290844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RESPECT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PENTRU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INTERLOCUTORI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_s4110"/>
            <p:cNvSpPr/>
            <p:nvPr/>
          </p:nvSpPr>
          <p:spPr>
            <a:xfrm>
              <a:off x="7353720" y="290844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CORECTITUDINE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IN EXPRIMARE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e sunt situatiile in care este necesar dialogul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d suntem cu famil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d ne intalnim cu prietenii sau colegi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d raspundem la lecti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 se poate dialoga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as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 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 scoal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 inte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 pi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magaz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librar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24560" y="2057400"/>
            <a:ext cx="4519440" cy="335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M SE REALIZEAZA UN DIALOG EFICIE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 respecta opinia celuila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m rabdare sa termine interlocutorul ce are de spu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losim un limbaj adecvat situatiei de comunicar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scris avem grija la punctuatie si ortografi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19828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icati cateva situatii in care ati folosit dialogul ineficient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r-o discutie cu mama care nu voia sa ma asculte cand ii explicam de ce vreau sa-mi petrec mai mult timp la calcul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d am incercat sa ii spun unui profesor motivul pentru care nu mi-am facut tem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 vrut sa discut cu prietena mea cea mai buna despre alti coleg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d conversam pe messenger si s-a luat curentu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re sunt cauzele ce pot duce la un dialog ineficie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psa atentie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ararea interlocutorulu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ptul ca nu vrea sa asculte ce am de spu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na</cp:lastModifiedBy>
  <dcterms:modified xsi:type="dcterms:W3CDTF">2010-05-25T20:3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